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ct" ContentType="image/x-pict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halkboard Bold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CDB8F-7AEB-458E-BF71-D807A804A4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C7F09-1369-4DF4-BA6A-DED207CCE9A2}" type="slidenum">
              <a:rPr b="0" lang="en-US" sz="1200" spc="-1" strike="noStrike">
                <a:solidFill>
                  <a:srgbClr val="000000"/>
                </a:solidFill>
                <a:latin typeface="Chalkboard Bol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halkboard Bold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F3ADF-52CF-46A9-BA61-4A4284F1DC0A}" type="slidenum">
              <a:rPr b="0" lang="en-US" sz="1200" spc="-1" strike="noStrike">
                <a:solidFill>
                  <a:srgbClr val="000000"/>
                </a:solidFill>
                <a:latin typeface="Chalkboard Bol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halkboard Bold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CA13E-EBD7-46AE-A248-C7494393C905}" type="slidenum">
              <a:rPr b="0" lang="en-US" sz="1200" spc="-1" strike="noStrike">
                <a:solidFill>
                  <a:srgbClr val="000000"/>
                </a:solidFill>
                <a:latin typeface="Chalkboard Bol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halkboard Bold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66D37-6DDB-40BB-B560-F3C56A073D16}" type="slidenum">
              <a:rPr b="0" lang="en-US" sz="1200" spc="-1" strike="noStrike">
                <a:solidFill>
                  <a:srgbClr val="000000"/>
                </a:solidFill>
                <a:latin typeface="Chalkboard Bol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halkboard Bold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AC227-9792-4868-896F-5BCAD12EF1AE}" type="slidenum">
              <a:rPr b="0" lang="en-US" sz="1200" spc="-1" strike="noStrike">
                <a:solidFill>
                  <a:srgbClr val="000000"/>
                </a:solidFill>
                <a:latin typeface="Chalkboard Bol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halkboard Bold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1174B-4C49-4ADC-9AB0-6B05B88D766D}" type="slidenum">
              <a:rPr b="0" lang="en-US" sz="1200" spc="-1" strike="noStrike">
                <a:solidFill>
                  <a:srgbClr val="000000"/>
                </a:solidFill>
                <a:latin typeface="Chalkboard Bol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halkboard Bold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5AD81-649E-4EE3-9433-A2E8290EDF1F}" type="slidenum">
              <a:rPr b="0" lang="en-US" sz="1200" spc="-1" strike="noStrike">
                <a:solidFill>
                  <a:srgbClr val="000000"/>
                </a:solidFill>
                <a:latin typeface="Chalkboard Bol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halkboard Bold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A5979-33FC-472C-A147-5EBC58342E99}" type="slidenum">
              <a:rPr b="0" lang="en-US" sz="1200" spc="-1" strike="noStrike">
                <a:solidFill>
                  <a:srgbClr val="000000"/>
                </a:solidFill>
                <a:latin typeface="Chalkboard Bol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halkboard Bold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5E358-D269-4CB4-B7B0-7145887E3E29}" type="slidenum">
              <a:rPr b="0" lang="en-US" sz="1200" spc="-1" strike="noStrike">
                <a:solidFill>
                  <a:srgbClr val="000000"/>
                </a:solidFill>
                <a:latin typeface="Chalkboard Bol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halkboard Bold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EA9D0-4CB5-4AD4-84F4-5B4743E03207}" type="slidenum">
              <a:rPr b="0" lang="en-US" sz="1200" spc="-1" strike="noStrike">
                <a:solidFill>
                  <a:srgbClr val="000000"/>
                </a:solidFill>
                <a:latin typeface="Chalkboard Bol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halkboard Bold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D2B77-EE3D-48DF-8054-84CF2FC1C87A}" type="slidenum">
              <a:rPr b="0" lang="en-US" sz="1200" spc="-1" strike="noStrike">
                <a:solidFill>
                  <a:srgbClr val="000000"/>
                </a:solidFill>
                <a:latin typeface="Chalkboard Bol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halkboard Bold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A64F3-2A03-46CB-8A01-C46F49AA11FD}" type="slidenum">
              <a:rPr b="0" lang="en-US" sz="1200" spc="-1" strike="noStrike">
                <a:solidFill>
                  <a:srgbClr val="000000"/>
                </a:solidFill>
                <a:latin typeface="Chalkboard Bol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halkboard Bold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C418B-A949-4B45-B372-8BA7A11F3B69}" type="slidenum">
              <a:rPr b="0" lang="en-US" sz="1200" spc="-1" strike="noStrike">
                <a:solidFill>
                  <a:srgbClr val="000000"/>
                </a:solidFill>
                <a:latin typeface="Chalkboard Bol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halkboard Bold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7465C-D3EA-4397-A342-7B4CA7666F2C}" type="slidenum">
              <a:rPr b="0" lang="en-US" sz="1200" spc="-1" strike="noStrike">
                <a:solidFill>
                  <a:srgbClr val="000000"/>
                </a:solidFill>
                <a:latin typeface="Chalkboard Bol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halkboard Bold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0B444-B598-43F4-BD9D-23FF310FE58B}" type="slidenum">
              <a:rPr b="0" lang="en-US" sz="1200" spc="-1" strike="noStrike">
                <a:solidFill>
                  <a:srgbClr val="000000"/>
                </a:solidFill>
                <a:latin typeface="Chalkboard Bol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halkboard Bold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28303-B1A8-47C4-82B8-43E352C1A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624816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647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361960" y="4130640"/>
            <a:ext cx="647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28AF5-FD47-4FB3-A228-2F6800638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624816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316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680800" y="1981080"/>
            <a:ext cx="316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361960" y="4130640"/>
            <a:ext cx="316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680800" y="4130640"/>
            <a:ext cx="316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D7C1E-489A-4D04-ACC6-9E9649DD9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624816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208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51840" y="1981080"/>
            <a:ext cx="208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741360" y="1981080"/>
            <a:ext cx="208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361960" y="4130640"/>
            <a:ext cx="208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551840" y="4130640"/>
            <a:ext cx="208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741360" y="4130640"/>
            <a:ext cx="208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14FB1-14CF-4686-8426-2749A57AE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10BA3-1986-4C62-8B6F-20B60C56D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624816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361960" y="1981080"/>
            <a:ext cx="6476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966F5-9BC8-4C00-AD6A-38ADA504A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624816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6476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E3D4E-8AD6-447C-BCA1-72F349629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624816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3160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680800" y="1981080"/>
            <a:ext cx="3160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D3449-955D-4399-AE43-B14132E8D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624816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D0A0D-784C-4C71-BF83-8C060E403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62320" y="304560"/>
            <a:ext cx="6248160" cy="67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77CCB-E4F0-4FDA-9E79-C0DED6544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624816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316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680800" y="1981080"/>
            <a:ext cx="3160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361960" y="4130640"/>
            <a:ext cx="316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3FE5F-02DE-46C8-BCE2-0A235D75A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624816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361960" y="1981080"/>
            <a:ext cx="6476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38D6F-781F-4FCC-9074-CBF97A1F6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624816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3160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680800" y="1981080"/>
            <a:ext cx="316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680800" y="4130640"/>
            <a:ext cx="316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2B028-57D2-42B1-AAFB-F90D7AE62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624816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316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680800" y="1981080"/>
            <a:ext cx="316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361960" y="4130640"/>
            <a:ext cx="647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1DD99-A022-445A-8521-6D0BD1849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624816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647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361960" y="4130640"/>
            <a:ext cx="647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56911-8569-41FB-A782-B0DBB8B74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624816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316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80800" y="1981080"/>
            <a:ext cx="316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361960" y="4130640"/>
            <a:ext cx="316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680800" y="4130640"/>
            <a:ext cx="316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25B8E-BD0D-4D35-837F-49067CDEA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624816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208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1840" y="1981080"/>
            <a:ext cx="208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741360" y="1981080"/>
            <a:ext cx="208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361960" y="4130640"/>
            <a:ext cx="208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551840" y="4130640"/>
            <a:ext cx="208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741360" y="4130640"/>
            <a:ext cx="208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C22E1-94EE-4079-934C-234AB96B1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624816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6476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D6F25-8C79-4136-933F-B01766CE8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624816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3160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680800" y="1981080"/>
            <a:ext cx="3160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776CB-658F-4705-8534-F9AC06245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624816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5753C-42A4-48E8-81AC-91FEDA2BC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362320" y="304560"/>
            <a:ext cx="6248160" cy="67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7C3E6-9A90-48A4-95AD-19995EABE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624816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316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680800" y="1981080"/>
            <a:ext cx="3160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361960" y="4130640"/>
            <a:ext cx="316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AF0DE-E67A-45E4-9F2A-3A81CB53A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624816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3160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680800" y="1981080"/>
            <a:ext cx="316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680800" y="4130640"/>
            <a:ext cx="316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6CFA4-4C4D-4DD0-8032-904078947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624816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316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680800" y="1981080"/>
            <a:ext cx="316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361960" y="4130640"/>
            <a:ext cx="647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FAED0-6D9F-4B09-BB69-65329A7B1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6248160" cy="1447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361960" y="1981080"/>
            <a:ext cx="6476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halkboard Bol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3200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halkboard Bol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81B03-2FDE-4D29-9CCF-A3FBE42F614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6248160" cy="1447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361960" y="1981080"/>
            <a:ext cx="6476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halkboard Bold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3720" y="624852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halkboard Bold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5CD40-FE7C-4EA8-ACF7-D19D056AA58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581280" y="1752120"/>
            <a:ext cx="5105520" cy="221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halkboard"/>
              </a:rPr>
              <a:t>Emergency 101</a:t>
            </a:r>
            <a:endParaRPr b="0" i="1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3581280" y="4190760"/>
            <a:ext cx="510552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6248160" cy="1447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halkboard"/>
              </a:rPr>
              <a:t>Care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715000" y="1905120"/>
            <a:ext cx="3162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halkboard"/>
              </a:rPr>
              <a:t>Never move the victim(s) to give treatment unless immediate life-threatening danger exists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halkboard"/>
              </a:rPr>
              <a:t>Is based on your primary survey of the victim. Provide care until EMS arrive and take over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Picture 6" descr=""/>
          <p:cNvPicPr/>
          <p:nvPr/>
        </p:nvPicPr>
        <p:blipFill>
          <a:blip r:embed="rId2"/>
          <a:stretch/>
        </p:blipFill>
        <p:spPr>
          <a:xfrm>
            <a:off x="2567160" y="1981080"/>
            <a:ext cx="27511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6248160" cy="1447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ituation 1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6476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arlos stayed at the scene of the accident with Lauryn until help arrived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arlos acted as the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auryn acted as th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6248160" cy="1447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ituation 2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6476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heck, call, care were the procedural steps used by Andy when he found his sister unresponsive in the bathroom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en Andy saw his sister on the floor what should he have don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6248160" cy="1447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ituation 3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6476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ior to applying pressure to Thomas’s open gash Kimberley put on a pair of kitchen dish washing glov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y did Kimberley use a pair of dishwashing glov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6248160" cy="1447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ituation 4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6476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ior to providing care Jack removed Heather from the car. Heather tried to sue Jack for injuries she said she received when pulled from her burning car by Jack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at law is in place to protect Jack from being sued by Heathe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6248160" cy="1447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halkboard"/>
              </a:rPr>
              <a:t>Independent Work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6476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alkboard"/>
              </a:rPr>
              <a:t>You will work today independently using your notes to design a “In case of An Emergency” three tab foldab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6248160" cy="1447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extile"/>
              </a:rPr>
              <a:t>Foldable Criteria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6476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Textile"/>
              </a:rPr>
              <a:t>Your foldable is worth 20p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extile"/>
              </a:rPr>
              <a:t>Information- location (5pt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6633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6633"/>
                </a:solidFill>
                <a:latin typeface="Textile"/>
              </a:rPr>
              <a:t>Information- accurate (5pt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Textile"/>
              </a:rPr>
              <a:t>Graphic- are appropriate and there is one for each EAP step (5pt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extile"/>
              </a:rPr>
              <a:t>Design- Neat and Colored (5pt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6248160" cy="1447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halkboard"/>
              </a:rPr>
              <a:t>What Is An Emergency?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6476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halkboard"/>
              </a:rPr>
              <a:t>Any unforeseen event or condition that requires a prompt response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6248160" cy="1447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halkboard"/>
              </a:rPr>
              <a:t>Who can respond in an emergency?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676840" y="1981080"/>
            <a:ext cx="3162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halkboard"/>
              </a:rPr>
              <a:t>Any Good Samarita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halkboard"/>
              </a:rPr>
              <a:t>Yo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halkboard"/>
              </a:rPr>
              <a:t>M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halkboard"/>
              </a:rPr>
              <a:t>Who ever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Picture 5" descr=""/>
          <p:cNvPicPr/>
          <p:nvPr/>
        </p:nvPicPr>
        <p:blipFill>
          <a:blip r:embed="rId2"/>
          <a:stretch/>
        </p:blipFill>
        <p:spPr>
          <a:xfrm>
            <a:off x="2814480" y="1981080"/>
            <a:ext cx="22575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6248160" cy="1447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halkboard"/>
              </a:rPr>
              <a:t>What Should a “Good Samaritan” Know?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362320" y="1981080"/>
            <a:ext cx="3162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halkboard"/>
              </a:rPr>
              <a:t>The </a:t>
            </a:r>
            <a:r>
              <a:rPr b="0" lang="en-US" sz="2600" spc="-1" strike="noStrike">
                <a:solidFill>
                  <a:srgbClr val="cc3300"/>
                </a:solidFill>
                <a:latin typeface="Chalkboard"/>
              </a:rPr>
              <a:t>Good Samaritan Law</a:t>
            </a:r>
            <a:r>
              <a:rPr b="0" lang="en-US" sz="2600" spc="-1" strike="noStrike">
                <a:solidFill>
                  <a:srgbClr val="000000"/>
                </a:solidFill>
                <a:latin typeface="Chalkboard"/>
              </a:rPr>
              <a:t> protects those who choose to aid others who are injured or ill from liability (being sued)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676840" y="1981080"/>
            <a:ext cx="3162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halkboard"/>
              </a:rPr>
              <a:t>Can also double as the </a:t>
            </a:r>
            <a:r>
              <a:rPr b="1" lang="en-US" sz="2600" spc="-1" strike="noStrike">
                <a:solidFill>
                  <a:srgbClr val="cc3300"/>
                </a:solidFill>
                <a:latin typeface="Chalkboard"/>
              </a:rPr>
              <a:t>first responder</a:t>
            </a:r>
            <a:r>
              <a:rPr b="1" lang="en-US" sz="2600" spc="-1" strike="noStrike">
                <a:solidFill>
                  <a:srgbClr val="000000"/>
                </a:solidFill>
                <a:latin typeface="Chalkboar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halkboard"/>
              </a:rPr>
              <a:t>- first person at an emergency scene who stays until professional help arrives.</a:t>
            </a: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6248160" cy="1447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halkboard"/>
              </a:rPr>
              <a:t>How Should a Good Samaritan Respond In an Emergency?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6476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alkboard"/>
              </a:rPr>
              <a:t>Using </a:t>
            </a:r>
            <a:r>
              <a:rPr b="0" lang="en-US" sz="3200" spc="-1" strike="noStrike">
                <a:solidFill>
                  <a:srgbClr val="cc3300"/>
                </a:solidFill>
                <a:latin typeface="Chalkboard"/>
              </a:rPr>
              <a:t>universal precautions</a:t>
            </a:r>
            <a:r>
              <a:rPr b="0" lang="en-US" sz="3200" spc="-1" strike="noStrike">
                <a:solidFill>
                  <a:srgbClr val="000000"/>
                </a:solidFill>
                <a:latin typeface="Chalkboard"/>
              </a:rPr>
              <a:t> - actions taken to prevent the spread of disease by treating all bodily fluids, especially blood, as if it were contaminated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alkboard"/>
              </a:rPr>
              <a:t>In a calm man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6248160" cy="1447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halkboard"/>
              </a:rPr>
              <a:t>If Your First on the Scene…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6476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alkboard"/>
              </a:rPr>
              <a:t>You will be the </a:t>
            </a:r>
            <a:r>
              <a:rPr b="0" lang="en-US" sz="3200" spc="-1" strike="noStrike">
                <a:solidFill>
                  <a:srgbClr val="cc3300"/>
                </a:solidFill>
                <a:latin typeface="Chalkboard"/>
              </a:rPr>
              <a:t>first respon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alkboard"/>
              </a:rPr>
              <a:t>You will also need an </a:t>
            </a:r>
            <a:r>
              <a:rPr b="0" lang="en-US" sz="3200" spc="-1" strike="noStrike">
                <a:solidFill>
                  <a:srgbClr val="cc3300"/>
                </a:solidFill>
                <a:latin typeface="Chalkboard"/>
              </a:rPr>
              <a:t>Emergency Action Plan</a:t>
            </a:r>
            <a:r>
              <a:rPr b="0" lang="en-US" sz="3200" spc="-1" strike="noStrike">
                <a:solidFill>
                  <a:srgbClr val="000000"/>
                </a:solidFill>
                <a:latin typeface="Chalkboard"/>
              </a:rPr>
              <a:t> - a systematic list of procedures to use in an emerg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Che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Ca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C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6248160" cy="1447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halkboard"/>
              </a:rPr>
              <a:t>Check- 1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6476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alkboard"/>
              </a:rPr>
              <a:t>Survey the sce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alkboard"/>
              </a:rPr>
              <a:t>Do not endanger your own life to try to help the victim if anything dangerous is present- live wires, vicious animals, fire, deep water, etc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alkboard"/>
              </a:rPr>
              <a:t>Call EM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6248160" cy="1447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halkboard"/>
              </a:rPr>
              <a:t>Check- 2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6476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halkboard"/>
              </a:rPr>
              <a:t>Conduct a primary survey of the victim(s) if the scene is safe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halkboard"/>
              </a:rPr>
              <a:t>Check to determine if the victim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halkboard"/>
              </a:rPr>
              <a:t>Is conscious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halkboard"/>
              </a:rPr>
              <a:t>Has an open, unobstructed airwa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halkboard"/>
              </a:rPr>
              <a:t>Is breathing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halkboard"/>
              </a:rPr>
              <a:t>Has a heartbea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halkboard"/>
              </a:rPr>
              <a:t>Is not bleeding severely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6248160" cy="1447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halkboard"/>
              </a:rPr>
              <a:t>Call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362320" y="1981080"/>
            <a:ext cx="3162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The following info must be provided when calling 9-1-1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The exact location of the emerg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The telephone number from which the call is being ma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638320" y="1905120"/>
            <a:ext cx="316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Callers 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What happen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Number of victi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Condition of victi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First aid being giv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07T17:43:44Z</dcterms:created>
  <dc:creator>Howard County Public Schools</dc:creator>
  <dc:description/>
  <dc:language>en-US</dc:language>
  <cp:lastModifiedBy>Howard County Administrator</cp:lastModifiedBy>
  <dcterms:modified xsi:type="dcterms:W3CDTF">2014-03-07T18:30:59Z</dcterms:modified>
  <cp:revision>25</cp:revision>
  <dc:subject/>
  <dc:title>Emergency 101</dc:title>
</cp:coreProperties>
</file>